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5C01-69F1-4477-A2F9-1B8865D0C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level applications (primarily, business oriented) employing Visual FoxPro (VFP) 8 and 9, Visual MaxFrame Professional (VMP), Stonefield Database Toolkit (SD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D96-4EB6-44B6-AE34-8D5E952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AAE-9E8C-49BC-8115-D5B79EE4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8B6-1031-47C1-955A-B0BD038D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41F-F191-4A89-AF14-A5BE5810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2B8E9-758B-48CB-B959-F68557F2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CDF26-5900-4CAD-8E0D-9BB42D25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5C910-1930-4DD7-B1C6-FBCC1747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7B42D-FCD1-4F83-80A1-29CFD02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6E32C-6989-4C40-8586-5D947229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6A9A8-3FED-4626-A7C6-BCE7C31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FAB91-26BF-4AF6-AF1D-31C0979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831-1E63-4C20-9F4D-C4B5324D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D2CC2-D82E-4E9A-B1DE-BE886BBA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618C4-AA1F-4D43-BE66-1447FCE5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C86F3-8FC9-425E-8DB5-CC7DE0B3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05973-346A-4942-9420-DA70FB15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5E591-2F66-46BF-91D3-C10B1844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6F6-59C8-4ACE-88DE-31CAB234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DC9-D6D3-4A37-9F28-7B4F81EA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B89-B55D-44FA-B712-B3B1A9C8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B7C-9A2E-49A4-A6DB-25D4E5CF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FD5-1862-42D7-B29A-0D61BB51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8CF-F151-4659-AD5A-F1CEDA7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0F1-6A59-4CD0-BE53-C6C7FD98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75C4-C97F-46B3-BB9C-0A08761E3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3E5-681E-47F4-9CCD-70830577A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7640" y="24300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s Angeles – June 1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27 (or so) Habits of Highly Effective VFP Developer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 Bergqu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on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bugging errors in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p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SSAGEBOX('&lt;n&gt;. ' + PROGRAM() + ' ...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text to a log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VFP 9, call SET COVERAGE TO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ther pract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loy “white space” in your co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th respect to macro substitution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ring “closure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on’t embed th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acter (string, text) delimi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mp unnecessary leading equals sig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the "C" flavor/variation of string fun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loy LEFTC(&lt;string&gt;, &lt;n&gt;) in lieu of SUBSTR…(&lt;string&gt;, 1, &lt;n&gt;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place ! with N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ut) employ "positive" logic whenever possi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indenting, indent two (2) spa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right-)align comments and semicolons in “compound statement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loy # in lieu of &lt;&gt; and !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Normalize" case when comparing character express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ploy TEXT…ENDTEXT for “cleaner” co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nitializing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rid column’s .ControlSou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emory variable to a SQL-SELECT st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ray to be the RowSource for a combobo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ing into the final stretch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CE() … the final front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ing and replacing text in the Command Wind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pizzazz to your forms with Wingding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PF-ing under various circumst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ance vs. maintain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ing all GetPict()-supported file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minating all errors in your VFP co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final w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not the final word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Am 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ior Consultant at Vision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rosoft Visual FoxPro MC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hor of articles and tips in FoxPro Advisor and FoxTalk magaz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ech-edited articles for F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ed with Drew Speedie for over 6½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ce President of the FPDN/S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her of 4 future VFP developers &lt;g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ptions to facilitate dev. in VFP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ols | Op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iew t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s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cently Used (MRU) 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s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play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ditor t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ckground color of Strings (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eground color of Comments (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aming Conventions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eld Names within T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board shortcu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eyboard is your frien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 circles around mouse-only developers (a.k.a., mousers &lt;g&gt;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py- (or Cut)-and-paste rather than re-typ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ts inadvertent ty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s consistency (e.g., of capitaliz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E IN SELECT(&lt;Work Area&gt;)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close a work area rather th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F NOT USED(&lt;Work Area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IN '&lt;Work Area&gt;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I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d rather th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IN '&lt;Work Area&gt;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mploy SQL-SELECTs “TO SCREEN” clause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determine if a record ex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hods for complex Dynamic… grid set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8350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.Column1.Dynamic… = [ThisForm.&lt;Method Name&gt;()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lieu of IIF() expressions or even an ICASE() expression (new to VFP 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1:29:58Z</dcterms:created>
  <dc:creator>3M HIS</dc:creator>
  <dc:description/>
  <dc:language>en-US</dc:language>
  <cp:lastModifiedBy>Art Bergquist</cp:lastModifiedBy>
  <dcterms:modified xsi:type="dcterms:W3CDTF">2007-06-12T21:12:04Z</dcterms:modified>
  <cp:revision>137</cp:revision>
  <dc:subject/>
  <dc:title>Slide 1</dc:title>
</cp:coreProperties>
</file>